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E230-D924-49C5-BE61-301B9C83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534-3959-4E67-B593-A6772A7B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424-3712-45A5-B4CE-86BDDB04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83C-E774-4E8E-9197-28C98BA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8B4-D575-4480-8807-688E3853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898-18A1-495E-A821-7E8A2EA7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510-E2C3-4302-87BB-3227A799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AAD-AAAC-4FEF-82A7-F1E5901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388-3848-4EBE-BD54-F3BEFF15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FDA-3880-4890-A47B-4FB4637C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E9A4-1346-4762-87E6-FBB1CD3B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E89-CCCD-4576-94C5-958F9B5E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053D-3CB1-45D0-96BF-5D0BD33B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C95-7406-4548-9CC0-A3028F3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18F-42E8-4DBE-8CB0-CF0893F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6B6-4CD0-4038-9E5D-0B6A605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8194-29A7-4FD7-9EAF-3AAB80AD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DE9E-7286-4DB3-B43D-70F2F2DD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8AB-E068-48D7-8250-21BEDA34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7BB2-4407-43B5-B617-FA2AD0C9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2000-91F0-435A-8F37-DFA65A8A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1520-1117-4E80-A6F1-D41F808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D5EA-B898-44A6-890D-446F671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F3A0-5F90-47DB-819E-28F901F8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705-C7F1-4EB8-9CEC-772F9F31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C62A-7F84-47B8-A390-EAE3B95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C5DC-E249-496C-AFC8-A974032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5E68-6A05-4F61-9F7A-6EC14AA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6A77-249D-478E-A20F-F153156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6567-095C-4CE4-8D59-89C2B57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517E-B346-4CB7-930C-91A1123D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2295-164C-429D-84F0-FF18C630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FC43-6688-40D0-8D59-5BC029D6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9867-A0B7-4723-BB86-09DD7C2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603B-E5E2-4FBD-89D2-13CF10B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918-96D1-40C5-BCE6-2FA5298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9EE6-5AE5-402D-BEFF-0658798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5B56-E502-4F72-BD12-2E18E41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7385-1BD3-4CBB-883A-4475ECB8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A2DF-DA92-46DA-BC60-991F8DC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237B-CB4C-439E-AFD7-D932669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6BB3-8281-4B12-BF3D-7AFDA5C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2A0D-EFC4-4F47-BA66-F45CF6ED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B603-94A5-440E-8245-7255B38E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E1C9-3F6B-41FD-9EB2-F4955627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5BA7-24B0-4EA2-9CB8-B4F45E74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5C1-EA69-41DD-9C0E-924C803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3AFF-5AF2-45D7-AABA-AD0762D5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FC6CC-B4D0-4333-8E4F-1AD455B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5E3D7-67D3-4DA2-8DAB-7511B37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326E9-E0C0-420D-A92E-B59E605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6AB5-ACC9-4A7C-8437-A72DE0FE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8FEE-679C-4902-90D9-5988A67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E0B7-52CC-4D91-BE6F-AB36228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01FF-85D1-4662-BF3E-AF4F975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561C-69FB-408D-BB5C-0C87570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0D51-F207-440C-96CA-5E0C0307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0C7-7260-4A1B-AB5E-892F20B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7EE5-2EF8-464F-A1D3-A5523BAE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3781-4F8D-431D-AA4E-63DDA256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E70F-D5ED-4F50-AA36-B58F3991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84C3-26C8-403A-97DE-5BF2F4D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7A48-9359-4B7D-B7AC-4B6D2F9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443D-53D0-4298-8C5C-059DB87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8628-D485-49BD-9F9B-803D12C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4648-FC3E-4DE3-8ECA-E3A9EED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F3D3-3D35-42A3-85FF-61A0FC8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7901-067A-4F6D-9D1F-D365090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B9B-57B3-4D09-88D3-6479426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AFEA-2617-4847-831D-E0C4A3F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95AB-D210-4D0D-A441-1E87D2A2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FE66-2354-4228-8751-3044197F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6713A-9F16-41F1-A8E7-C65A56C0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8FDEE-EBE0-4224-9A5D-E3587BA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11DC-B170-4E4E-9C84-F6FB094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BA45-235B-42A2-AC02-A79EB2C4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6D53-F1E3-43C1-A75B-12F0B60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9435-9748-46BA-9B9D-7231B8E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FDD7-EC5D-4F8A-A41F-C689900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C90-FEAC-4032-A8F0-3398D55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1452-BAD4-4817-8102-164A3C5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EA86-37CF-40C5-A31D-FAB6F3D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094A-BE8F-4E54-984F-83B1B06D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F4A2-4C63-4ADE-A3C0-48770D4F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0BCD-FE52-4BE1-9343-EAC3B353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D7A93-F9FE-4DF5-B0D9-81A09E14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67B2-1BDF-4B07-9EB2-61DCDBC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6DB4-4D13-4263-A8CF-1C6BD70D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E79F2-7549-49D0-9DC4-875ED0E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5DBF3-5B8E-4826-AED8-2F0407D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8BF-3DA3-4C30-AF28-0B20869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A18D-283D-4231-81EE-2EC24C01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2733-860C-406D-BC3E-4766D89B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8842-2D37-47F5-8E14-41D36B1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7545-6B7F-49EC-9DA7-4B1C6845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8838-3FF2-4F9D-8C8D-234D8C6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3D3B-FB03-4B1B-BAEB-F8D21EDC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10AAE-6249-42F5-ADA9-F5EF4CF9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F93-7799-4221-871F-35C9FCC66B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DA7-FEE1-4765-9B0D-7A7941FE5C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ECF-7051-4CB0-B5D8-CE2A6416C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FB6B-1763-4A7F-B4DE-0BCB26FE8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720-E90C-47B3-95AD-474744A26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CD3E-8D9B-4396-98F2-D8B31FFC76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348-B625-425E-BC69-9E3D7950E5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50E8-1E0E-450E-A219-0911541D83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231948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Non Glucose Sugars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878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0" y="1676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sacchar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de up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Galactose linked to Glucose b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1-4) linkag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ed commonly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lk Sug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duced by mammary glan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synthesized in Golgi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tose Synth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transfer galactose from UDP-galactose to glucose releasing UD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0" y="609120"/>
            <a:ext cx="5943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tose synthase is made up of two proteins, A and B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-galactosyltransf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found in number of tissues and in tissues other then lactating mammary glands causes transfer of galactose from UDP-galactose to N-acetyl D-glucosamine producing N-acetyllactosamine, a structurally important glycoprotei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und only in lactating mammary glands, is a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lactalbum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stimulated by prolacti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B forms a complex with Protein A changing specificity of transferase so that lactose is produced rather than N-acetyllactosami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6019920" y="184320"/>
            <a:ext cx="31240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7696080" y="4143240"/>
            <a:ext cx="144792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G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0" y="1295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ucose is the most common monosaccharide consumed by huma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wo other monosaccharides occur in significant amounts in the diet (primarily in diasaccharides) and contribute significantly in energy metabolism- Fructose and Galactos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actose in addition is an important component of structural carbohydra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fitnessbs.com/wp-content/uploads/2013/03/fruit-sugar.gif"/>
          <p:cNvPicPr/>
          <p:nvPr/>
        </p:nvPicPr>
        <p:blipFill>
          <a:blip r:embed="rId2"/>
          <a:stretch/>
        </p:blipFill>
        <p:spPr>
          <a:xfrm>
            <a:off x="0" y="4114800"/>
            <a:ext cx="3024360" cy="274320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8" descr="http://hyperphysics.phy-astr.gsu.edu/hbase/organic/imgorg/fructose.gif"/>
          <p:cNvPicPr/>
          <p:nvPr/>
        </p:nvPicPr>
        <p:blipFill>
          <a:blip r:embed="rId3"/>
          <a:stretch/>
        </p:blipFill>
        <p:spPr>
          <a:xfrm>
            <a:off x="2971800" y="4591080"/>
            <a:ext cx="2247840" cy="219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www.differencebetween.info/sites/default/files/images/1/galactose.jpg"/>
          <p:cNvPicPr/>
          <p:nvPr/>
        </p:nvPicPr>
        <p:blipFill>
          <a:blip r:embed="rId4"/>
          <a:stretch/>
        </p:blipFill>
        <p:spPr>
          <a:xfrm>
            <a:off x="5257800" y="4648320"/>
            <a:ext cx="1712880" cy="2047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ttp://benclinov.ro/wp-content/uploads/2013/11/milk-and-diary-products.jpg"/>
          <p:cNvPicPr/>
          <p:nvPr/>
        </p:nvPicPr>
        <p:blipFill>
          <a:blip r:embed="rId5"/>
          <a:stretch/>
        </p:blipFill>
        <p:spPr>
          <a:xfrm>
            <a:off x="-5373720" y="-167652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http://benclinov.ro/wp-content/uploads/2013/11/milk-and-diary-products.jpg"/>
          <p:cNvPicPr/>
          <p:nvPr/>
        </p:nvPicPr>
        <p:blipFill>
          <a:blip r:embed="rId6"/>
          <a:stretch/>
        </p:blipFill>
        <p:spPr>
          <a:xfrm>
            <a:off x="7010280" y="419112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76176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jor source of fructose is sucrose which when cleaved in the intestine releases fructose and glucose. Also found in many fruits, honey and in high-fructose corn syru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osphorylation of fruct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fructose to enter the intermediary metabolism, it must get phosphorylated. This is achieved by two enzym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ctokin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ime one with low Km and High Vmax for fructose. Found in liver, kidney and small intestinal mucosa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s fructose to fructose-1-phosph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xokin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rmally glucose is its substrate unless intracellular concentration of fructose becomes unusually high. Found in most of the cell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s fructose to fructose-6-phosph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both the cases ATP acts as the phosphate donor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8780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7924680" y="50292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,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200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-360" y="1709280"/>
            <a:ext cx="48006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eavage of fructose-1-phosph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u-1-P is not phosphorylated to Fru-1,6-bisphosphate but is cleaved to give glyceraldehyde and dihydroxyacetone phosphate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dolase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HAP can directly enter glycolysis or gluconeogenesis whereas glyceraldehyde can be metabolized by other pathway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84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149800" y="1676520"/>
            <a:ext cx="366084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810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57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-360" y="12193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s of sorbito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dose reduct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glucose to give sorbito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 in lens, retina, Schwann cells of peripheral nerves, liver, kidney, RBCs, ovaries and seminal vesicl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ells of liver, ovaries and seminal vesic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enzy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rbitol dehydrogen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s into play which oxidize sorbitol to fructos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ste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way is call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yol pathw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s a clever mechanism of cells to trap glucose under hyperglycemic conditions i.e. well fed st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0432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3657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-360" y="1481040"/>
            <a:ext cx="5334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 conditions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rbitol dehydroge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low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 retina, lens, kidney and nerve cells), result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rbitol accu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using cell swelling due to water reten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pathologic alterations associated with diabetes can be attributed partially to this phenomena like cataract formation, nephropathy, neuropath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043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809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 dietary source of galactose is lactose coming from milk and milk product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is obtained by lysosomal degradation of complex carbohydrates which are important membrane componen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osphorylation of Galactose: Galactoki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duces Galactose-1-phosphate. ATP is the phosphate donor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 of UDP-galact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-1-P cannot enter glycolytic cycle unless converted to UDP-galactos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hange reaction occurs in which UDP-glucose reacts with Gal-1-P to give UDP-galactose and G-1-P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zyme involve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actose1-phosphate uridyltransferase (GALT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156960" cy="878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UDP-galactose as a carbon source for glycolysis or gluconeogenes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galactose to enter mainstream of glucose metabolism it must be converted to UDP-glucose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hexose 4-epim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UDP-galactose in biosynthetic reac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galactose can serve as the donor of galactose units in a number of synthetic pathways like synthesis of lactose, glycoproteins, glycolipids and GAG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21:03:02Z</dcterms:created>
  <dc:creator>Haider Giha</dc:creator>
  <dc:description/>
  <dc:language>en-US</dc:language>
  <cp:lastModifiedBy>deebasj</cp:lastModifiedBy>
  <dcterms:modified xsi:type="dcterms:W3CDTF">2014-02-10T09:31:38Z</dcterms:modified>
  <cp:revision>316</cp:revision>
  <dc:subject/>
  <dc:title>General</dc:title>
</cp:coreProperties>
</file>