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7.png" ContentType="image/png"/>
  <Override PartName="/ppt/media/image9.png" ContentType="image/png"/>
  <Override PartName="/ppt/media/image8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52C9-0D76-4E54-94A7-7CDBE2336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FC22-4BDD-4D5E-AB4A-16C3E5637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41F-FB02-46F4-9C6F-73A4E9E8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1CD-D7D8-4CF3-ABCD-43E8D9E8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BC2-0B24-44E4-BA1F-0D17B4A1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EDD-00DA-4076-88A7-A8428991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06C7-BB19-43F4-B740-F6CACC56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DD29-4DEE-474D-8E20-475A5BD2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E2A1-AE09-4F2E-8A92-E1CA3962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EF4C-B985-42AB-9BFE-9FC34CD6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E39D-39B1-47F4-B705-ABB4B51B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F415-70F5-4E12-B55A-27D0471D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652B-6EAA-4FE6-9E17-D0306A04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C33-97F5-4D8F-921F-F4470B7C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2F24-3A76-4CAA-BF9E-5971494F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9D32-8428-4662-8779-58556243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951E-5A8E-4A58-A97B-684CAA02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7C88-B52B-45CE-B845-7553CDFC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25E1-9DF9-4A6D-BB76-9E9DED7F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A72F8-6E6F-443B-9D83-2499247C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ACE11-87D0-4F2D-8C54-66E95200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DA8F6-42A8-493D-A745-FE7D5F85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C81C6-3B62-454D-8650-FE4C0A39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47CCC-FC47-47F3-AC30-CB546703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924-B175-4E2D-8916-537F7F63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630E-7510-4046-8746-161BFEE7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5FB5-8FDF-4D2E-B698-01493978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C4586-CD25-4625-AEB0-3314EDB7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F12AC-4364-4994-ABD4-25921C7D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53B97-7215-40E8-823C-51D909CA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435C-C4CA-4B42-8FDB-5AC43E11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FAC82-29FC-4FE0-AC1D-830F490A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6306C-90AA-4147-8736-3939B679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3DC39-23D7-4644-8EB5-D7F3D920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1EF83-C329-422B-8C25-807D1716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98B-6EBE-4197-AFB9-8E4C1E5A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FA7E0-04D2-4B5E-BD6B-CCE6361A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00E13-35F8-4722-98AF-A3521D2F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A235-F11C-46B2-B492-B19D7AFC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11524-0093-445E-9460-FBF47BA3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B50DC-A98A-442B-ABB0-9ED6CF8D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B91AC-276F-42C0-9FF6-F01EA496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FE6C8-DD23-41E1-840D-F17D9A99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9CE12-3A83-4E6E-84F3-77D77C16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063EE-70A9-48D8-B783-CAD9E5F2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97D81-13FB-4CA0-8899-95B8756B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6F3-0266-4088-AB3D-7B892E00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D1EE4-CFB0-4FFD-A3B7-51628289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2C012-F438-4384-8E82-05E00B5D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F8054-CB53-4FAF-80E6-53F8DFCB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0E7C0-B2C7-413C-9AC9-5FDCB7B9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9446E-64CE-47F8-AC71-E0B831A7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C66FD-7E2C-4A51-BE1B-2A94CA55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F8A39-1EC3-47EB-BD8B-8426CDBC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EC66B-2748-4618-AD92-77729872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98DB7-0F79-4E5E-B125-7E3FD7B8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5454F-D382-4209-8755-D570FBE3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C15-0669-4902-9070-509BECC8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08E7B-D18B-418E-8F32-78F3C422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D1F1E-95DE-4184-9FBC-276300F9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911C3-18F1-48B5-A404-1A0A92D4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2AA0C-13C5-4C6B-BB64-22802C1B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1A9E2-C49F-46E6-BB9B-384DE4CA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7042E-76AE-480A-8CE3-CFF071EF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CE895-8AA2-40A0-B07C-CC5319DD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27DFD-193D-453E-A714-0144D078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1C983-D487-470E-B310-2DE9D75B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121AF-1D87-44F7-8ECA-8F087479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89E-0FE0-481C-BB35-E1A43572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DC273-EE2B-4294-ADE7-8925E45A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C9706-81D2-4D9D-B0A4-E6E999A5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C3734-2FA7-47D5-A051-66FA987B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27B51-1BC0-4B4F-91B6-81588857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18E0B-0395-4712-90A1-FD23FFFE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3E54A-269A-451B-964D-8D0886A5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5F7AA-D711-48A6-B9AF-8BC1A9A9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980F9-556F-4BB0-A46C-A7AC9D4F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B8774-0F93-4A29-AA4E-6509421B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48435-5B24-4D78-BA5B-25817647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0BD-C044-4602-825A-03C1BE8F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E0E1C-AEB1-4536-8BA4-58268CF2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B9F48-6BFB-4352-BD56-F8C25E49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D02B1-C4D1-4DAE-B4FF-701E26A5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23634-1F49-4354-A897-ABECA34C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BB6C9-EDF4-4552-9ED4-CBA04AA7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C236B-5C33-47E2-90F2-2D0192B5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3FA89-50A6-4F5A-ACE5-8E6E356E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ED8A2-7E2E-49A7-8625-2BE65D6C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2C4A2-9216-4798-ADC6-CAE886DE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75787-A1EB-4021-9623-CBA93D40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C30-8F71-4A34-9940-56E44669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B5A77-84B3-4482-BDEA-50E6345D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CF4D0-A286-46F9-A26D-319EE6FF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F0AE1-DFF9-4FBA-A37D-F4AF80FF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32ABC-D693-4B96-A823-89857255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34703-1D72-4446-B144-57F8235C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48DDB-AADC-42D7-A010-2F040901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3C66E-F900-4EC2-95C0-9FA14F14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A018-0468-4103-B8DE-2D0DA1B1E1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E1F0-4635-44CC-AD05-6E2EA972BD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0809-E846-4D87-B4FA-79B4F28D35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DF74-4679-4D61-AE1A-D0C7564509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E09E-1BA0-44D1-9BA2-B422CEAC1E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E43E-96F1-4779-B041-AEDC21C245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0302-A1B7-4C61-AEB6-7742DC5BCE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46F9-0EF5-4151-8A94-7022BF68DB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14400" y="2319480"/>
            <a:ext cx="82296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ETABOLISM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(Non Glucose Sugars)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8780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0" y="1676160"/>
            <a:ext cx="9144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asacchari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de up of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Galactose linked to Glucose by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1-4) linkag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led commonly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lk Sug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oduced by mammary gland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s synthesized in Golgi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ctose Syntha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ich transfer galactose from UDP-galactose to glucose releasing UDP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0" y="609120"/>
            <a:ext cx="5943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ctose synthase is made up of two proteins, A and B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EIN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is a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-galactosyltransfer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found in number of tissues and in tissues other then lactating mammary glands causes transfer of galactose from UDP-galactose to N-acetyl D-glucosamine producing N-acetyllactosamine, a structurally important glycoprotein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EIN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und only in lactating mammary glands, is a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lactalbum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is stimulated by prolacti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ein B forms a complex with Protein A changing specificity of transferase so that lactose is produced rather than N-acetyllactosami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8841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6019920" y="184320"/>
            <a:ext cx="312408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2"/>
          <a:stretch/>
        </p:blipFill>
        <p:spPr>
          <a:xfrm>
            <a:off x="0" y="1100160"/>
            <a:ext cx="9144000" cy="5757840"/>
          </a:xfrm>
          <a:prstGeom prst="rect">
            <a:avLst/>
          </a:prstGeom>
          <a:ln w="0">
            <a:noFill/>
          </a:ln>
        </p:spPr>
      </p:pic>
      <p:sp>
        <p:nvSpPr>
          <p:cNvPr id="416" name="TextBox 4"/>
          <p:cNvSpPr/>
          <p:nvPr/>
        </p:nvSpPr>
        <p:spPr>
          <a:xfrm>
            <a:off x="7696080" y="4143240"/>
            <a:ext cx="1447920" cy="27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G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0" y="129528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lucose is the most common monosaccharide consumed by human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 two other monosaccharides occur in significant amounts in the diet (primarily in diasaccharides) and contribute significantly in energy metabolism- Fructose and Galactos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lactose in addition is an important component of structural carbohydrat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fitnessbs.com/wp-content/uploads/2013/03/fruit-sugar.gif"/>
          <p:cNvPicPr/>
          <p:nvPr/>
        </p:nvPicPr>
        <p:blipFill>
          <a:blip r:embed="rId2"/>
          <a:stretch/>
        </p:blipFill>
        <p:spPr>
          <a:xfrm>
            <a:off x="0" y="4114800"/>
            <a:ext cx="3024360" cy="274320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8" descr="http://hyperphysics.phy-astr.gsu.edu/hbase/organic/imgorg/fructose.gif"/>
          <p:cNvPicPr/>
          <p:nvPr/>
        </p:nvPicPr>
        <p:blipFill>
          <a:blip r:embed="rId3"/>
          <a:stretch/>
        </p:blipFill>
        <p:spPr>
          <a:xfrm>
            <a:off x="2971800" y="4591080"/>
            <a:ext cx="2247840" cy="2190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http://www.differencebetween.info/sites/default/files/images/1/galactose.jpg"/>
          <p:cNvPicPr/>
          <p:nvPr/>
        </p:nvPicPr>
        <p:blipFill>
          <a:blip r:embed="rId4"/>
          <a:stretch/>
        </p:blipFill>
        <p:spPr>
          <a:xfrm>
            <a:off x="5257800" y="4648320"/>
            <a:ext cx="1712880" cy="2047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http://benclinov.ro/wp-content/uploads/2013/11/milk-and-diary-products.jpg"/>
          <p:cNvPicPr/>
          <p:nvPr/>
        </p:nvPicPr>
        <p:blipFill>
          <a:blip r:embed="rId5"/>
          <a:stretch/>
        </p:blipFill>
        <p:spPr>
          <a:xfrm>
            <a:off x="-5373720" y="-1676520"/>
            <a:ext cx="1562040" cy="1828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4" descr="http://benclinov.ro/wp-content/uploads/2013/11/milk-and-diary-products.jpg"/>
          <p:cNvPicPr/>
          <p:nvPr/>
        </p:nvPicPr>
        <p:blipFill>
          <a:blip r:embed="rId6"/>
          <a:stretch/>
        </p:blipFill>
        <p:spPr>
          <a:xfrm>
            <a:off x="7010280" y="4191120"/>
            <a:ext cx="2133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0" y="761760"/>
            <a:ext cx="5943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jor source of fructose is sucrose which when cleaved in the intestine releases fructose and glucose. Also found in many fruits, honey and in high-fructose corn syrup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osphorylation of fructos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fructose to enter the intermediary metabolism, it must get phosphorylated. This is achieved by two enzym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uctokinas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ime one with low Km and High Vmax for fructose. Found in liver, kidney and small intestinal mucosa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s fructose to fructose-1-phosphat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xokinas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rmally glucose is its substrate unless intracellular concentration of fructose becomes unusually high. Found in most of the cells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s fructose to fructose-6-phosphat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both the cases ATP acts as the phosphate donor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-6480" y="-158760"/>
            <a:ext cx="9156960" cy="8780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4"/>
          <p:cNvSpPr/>
          <p:nvPr/>
        </p:nvSpPr>
        <p:spPr>
          <a:xfrm>
            <a:off x="7924680" y="50292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,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7" descr=""/>
          <p:cNvPicPr/>
          <p:nvPr/>
        </p:nvPicPr>
        <p:blipFill>
          <a:blip r:embed="rId2"/>
          <a:stretch/>
        </p:blipFill>
        <p:spPr>
          <a:xfrm>
            <a:off x="5943600" y="990720"/>
            <a:ext cx="32004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-360" y="1709280"/>
            <a:ext cx="480060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eavage of fructose-1-phospha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u-1-P is not phosphorylated to Fru-1,6-bisphosphate but is cleaved to give glyceraldehyde and dihydroxyacetone phosphate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dolase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HAP can directly enter glycolysis or gluconeogenesis whereas glyceraldehyde can be metabolized by other pathway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156960" cy="884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5149800" y="1676520"/>
            <a:ext cx="3660840" cy="4572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"/>
          <p:cNvPicPr/>
          <p:nvPr/>
        </p:nvPicPr>
        <p:blipFill>
          <a:blip r:embed="rId3"/>
          <a:stretch/>
        </p:blipFill>
        <p:spPr>
          <a:xfrm>
            <a:off x="5181480" y="1295280"/>
            <a:ext cx="38102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957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-360" y="1219320"/>
            <a:ext cx="5181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thesis of sorbitol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46200" indent="-2484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dose reduct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s glucose to give sorbito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46200" indent="-2484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46200" indent="-2484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 in lens, retina, Schwann cells of peripheral nerves, liver, kidney, RBCs, ovaries and seminal vesicle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46200" indent="-2484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46200" indent="-2484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ells of liver, ovaries and seminal vesic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other enzym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rbitol dehydrogen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es into play which oxidize sorbitol to fructos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46200" indent="-2484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46200" indent="-2484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ste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hway is called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yol pathwa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is a clever mechanism of cells to trap glucose under hyperglycemic conditions i.e. well fed stat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00432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"/>
          <p:cNvPicPr/>
          <p:nvPr/>
        </p:nvPicPr>
        <p:blipFill>
          <a:blip r:embed="rId2"/>
          <a:stretch/>
        </p:blipFill>
        <p:spPr>
          <a:xfrm>
            <a:off x="5486400" y="1143000"/>
            <a:ext cx="3657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-360" y="1481040"/>
            <a:ext cx="53341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 conditions wh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rbitol dehydrogen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low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s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n retina, lens, kidney and nerve cells), result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rbitol accumul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using cell swelling due to water retentio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pathologic alterations associated with diabetes can be attributed partially to this phenomena like cataract formation, nephropathy, neuropathy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00432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809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0" y="9144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jor dietary source of galactose is lactose coming from milk and milk product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is obtained by lysosomal degradation of complex carbohydrates which are important membrane component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osphorylation of Galactose: Galactokin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oduces Galactose-1-phosphate. ATP is the phosphate donor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tion of UDP-galactos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l-1-P cannot enter glycolytic cycle unless converted to UDP-galactos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change reaction occurs in which UDP-glucose reacts with Gal-1-P to give UDP-galactose and G-1-P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zyme involve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lactose1-phosphate uridyltransferase (GALT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-6480" y="42840"/>
            <a:ext cx="9156960" cy="8780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of UDP-galactose as a carbon source for glycolysis or gluconeogenesi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DP-galactose to enter mainstream of glucose metabolism it must be converted to UDP-glucose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DP-hexose 4-epimer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e of UDP-galactose in biosynthetic reaction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DP-galactose can serve as the donor of galactose units in a number of synthetic pathways like synthesis of lactose, glycoproteins, glycolipids and GAG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4T21:03:02Z</dcterms:created>
  <dc:creator>Haider Giha</dc:creator>
  <dc:description/>
  <dc:language>en-US</dc:language>
  <cp:lastModifiedBy>deebasj</cp:lastModifiedBy>
  <dcterms:modified xsi:type="dcterms:W3CDTF">2014-02-10T09:31:38Z</dcterms:modified>
  <cp:revision>316</cp:revision>
  <dc:subject/>
  <dc:title>General</dc:title>
</cp:coreProperties>
</file>