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884-6B99-47D8-A9D5-78E762D7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B95-0783-42BA-B00F-43E08D8B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3B2-DDEF-4EF7-AFFD-529D762F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146-DFAC-40D2-B749-4AE4E118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991F6-6D24-46BE-8580-20C26619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960A4-CD40-47A9-8EEA-02918A36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0584D-19D5-4326-AAA6-2236A9CC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6FF48-21CF-4365-845D-E5924CE6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8B188-10BF-4F55-B50E-D3A52A55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7A50F-2A4A-4B73-A5B8-BF9915C7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5D515-4E43-49AA-A764-168ECA72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E7A-8F22-4402-861D-67541519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7C1FE-1780-4547-A92A-C78B05D9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02A1B-ACF8-4123-A8A9-AD106085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FC976-D01E-4A11-AB69-34414D8E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9DC59-7BDD-4FC2-9ECF-4C29FE3C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B83F7-1D9B-4288-90DE-B5BAE297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195-7D23-4946-AC1E-B7F1C9C2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0F9-B26E-4A20-8C81-166E49B8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D16-1520-4802-9E74-D6708AC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679-DEFC-44BF-8208-2EFA6F20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4E0-5902-4A4C-8542-4DBC7FA6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F76-6840-4557-913C-A21E9992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497-5167-4C52-8234-93C063F9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7650-0FF3-4AF1-AFFC-84C1E922B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1F8A-723F-46A2-88A3-C058CA7328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SES KOMUNIKASI DALAM MASYARAK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IAH SOSIOLOGI KOMUNIK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37"/>
          <p:cNvGrpSpPr/>
          <p:nvPr/>
        </p:nvGrpSpPr>
        <p:grpSpPr>
          <a:xfrm>
            <a:off x="-79200" y="1125360"/>
            <a:ext cx="9223200" cy="3095640"/>
            <a:chOff x="-79200" y="1125360"/>
            <a:chExt cx="9223200" cy="3095640"/>
          </a:xfrm>
        </p:grpSpPr>
        <p:sp>
          <p:nvSpPr>
            <p:cNvPr id="139" name="AutoShape 38"/>
            <p:cNvSpPr/>
            <p:nvPr/>
          </p:nvSpPr>
          <p:spPr>
            <a:xfrm>
              <a:off x="-79200" y="2548080"/>
              <a:ext cx="1120680" cy="87948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Efek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AutoShape 39"/>
            <p:cNvSpPr/>
            <p:nvPr/>
          </p:nvSpPr>
          <p:spPr>
            <a:xfrm>
              <a:off x="884160" y="2006640"/>
              <a:ext cx="1866960" cy="1935000"/>
            </a:xfrm>
            <a:prstGeom prst="hexagon">
              <a:avLst>
                <a:gd name="adj" fmla="val 50000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Sumber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enerima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40"/>
            <p:cNvSpPr/>
            <p:nvPr/>
          </p:nvSpPr>
          <p:spPr>
            <a:xfrm>
              <a:off x="2751120" y="2006640"/>
              <a:ext cx="1119240" cy="527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Edito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41"/>
            <p:cNvSpPr/>
            <p:nvPr/>
          </p:nvSpPr>
          <p:spPr>
            <a:xfrm>
              <a:off x="4243320" y="1125360"/>
              <a:ext cx="1681200" cy="704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Media mass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Pembagi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42"/>
            <p:cNvSpPr/>
            <p:nvPr/>
          </p:nvSpPr>
          <p:spPr>
            <a:xfrm>
              <a:off x="4243320" y="2006640"/>
              <a:ext cx="1681200" cy="527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Salura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43"/>
            <p:cNvSpPr/>
            <p:nvPr/>
          </p:nvSpPr>
          <p:spPr>
            <a:xfrm>
              <a:off x="4290840" y="3692520"/>
              <a:ext cx="1633680" cy="52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Salura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Text Box 44"/>
            <p:cNvSpPr/>
            <p:nvPr/>
          </p:nvSpPr>
          <p:spPr>
            <a:xfrm>
              <a:off x="4430880" y="2886120"/>
              <a:ext cx="1493640" cy="52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Ganggua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AutoShape 45"/>
            <p:cNvSpPr/>
            <p:nvPr/>
          </p:nvSpPr>
          <p:spPr>
            <a:xfrm>
              <a:off x="6110280" y="2006640"/>
              <a:ext cx="1866960" cy="1935000"/>
            </a:xfrm>
            <a:prstGeom prst="hexagon">
              <a:avLst>
                <a:gd name="adj" fmla="val 50000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800" spc="-1" strike="noStrike">
                  <a:solidFill>
                    <a:srgbClr val="ffffff"/>
                  </a:solidFill>
                  <a:latin typeface="Tahoma"/>
                </a:rPr>
                <a:t>Penerima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800" spc="-1" strike="noStrike">
                  <a:solidFill>
                    <a:srgbClr val="ffffff"/>
                  </a:solidFill>
                  <a:latin typeface="Tahoma"/>
                </a:rPr>
                <a:t>Sumber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46"/>
            <p:cNvSpPr/>
            <p:nvPr/>
          </p:nvSpPr>
          <p:spPr>
            <a:xfrm flipH="1">
              <a:off x="323640" y="3591000"/>
              <a:ext cx="1120680" cy="0"/>
            </a:xfrm>
            <a:prstGeom prst="line">
              <a:avLst/>
            </a:prstGeom>
            <a:ln w="93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 flipH="1">
              <a:off x="323640" y="2181240"/>
              <a:ext cx="1120680" cy="1440"/>
            </a:xfrm>
            <a:prstGeom prst="line">
              <a:avLst/>
            </a:prstGeom>
            <a:ln w="9360">
              <a:solidFill>
                <a:srgbClr val="ffcc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Line 48"/>
            <p:cNvSpPr/>
            <p:nvPr/>
          </p:nvSpPr>
          <p:spPr>
            <a:xfrm>
              <a:off x="2003400" y="2181240"/>
              <a:ext cx="747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Line 49"/>
            <p:cNvSpPr/>
            <p:nvPr/>
          </p:nvSpPr>
          <p:spPr>
            <a:xfrm>
              <a:off x="5924520" y="2181240"/>
              <a:ext cx="93348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Line 50"/>
            <p:cNvSpPr/>
            <p:nvPr/>
          </p:nvSpPr>
          <p:spPr>
            <a:xfrm>
              <a:off x="7230960" y="2181240"/>
              <a:ext cx="1306440" cy="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52" name="AutoShape 51"/>
            <p:cNvCxnSpPr/>
            <p:nvPr/>
          </p:nvCxnSpPr>
          <p:spPr>
            <a:xfrm flipH="1">
              <a:off x="7214760" y="3414600"/>
              <a:ext cx="1680480" cy="527760"/>
            </a:xfrm>
            <a:prstGeom prst="bentConnector4">
              <a:avLst>
                <a:gd name="adj1" fmla="val -921"/>
                <a:gd name="adj2" fmla="val 88873"/>
              </a:avLst>
            </a:prstGeom>
            <a:ln w="9360">
              <a:solidFill>
                <a:srgbClr val="ffcc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53" name="Line 52"/>
            <p:cNvSpPr/>
            <p:nvPr/>
          </p:nvSpPr>
          <p:spPr>
            <a:xfrm flipH="1">
              <a:off x="1817640" y="3941640"/>
              <a:ext cx="24256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53"/>
            <p:cNvSpPr/>
            <p:nvPr/>
          </p:nvSpPr>
          <p:spPr>
            <a:xfrm flipV="1">
              <a:off x="4991040" y="2709360"/>
              <a:ext cx="0" cy="352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54"/>
            <p:cNvSpPr/>
            <p:nvPr/>
          </p:nvSpPr>
          <p:spPr>
            <a:xfrm flipV="1">
              <a:off x="4991040" y="3238200"/>
              <a:ext cx="0" cy="352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55"/>
            <p:cNvSpPr/>
            <p:nvPr/>
          </p:nvSpPr>
          <p:spPr>
            <a:xfrm flipH="1">
              <a:off x="3684600" y="3090960"/>
              <a:ext cx="5587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56"/>
            <p:cNvSpPr/>
            <p:nvPr/>
          </p:nvSpPr>
          <p:spPr>
            <a:xfrm flipH="1" flipV="1">
              <a:off x="5549400" y="3119040"/>
              <a:ext cx="56052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57"/>
            <p:cNvSpPr/>
            <p:nvPr/>
          </p:nvSpPr>
          <p:spPr>
            <a:xfrm flipH="1" flipV="1">
              <a:off x="3870000" y="2709720"/>
              <a:ext cx="560520" cy="1764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58"/>
            <p:cNvSpPr/>
            <p:nvPr/>
          </p:nvSpPr>
          <p:spPr>
            <a:xfrm flipH="1">
              <a:off x="3870000" y="3414600"/>
              <a:ext cx="560520" cy="1764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59"/>
            <p:cNvSpPr/>
            <p:nvPr/>
          </p:nvSpPr>
          <p:spPr>
            <a:xfrm flipV="1">
              <a:off x="5549760" y="2709720"/>
              <a:ext cx="374760" cy="1764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60"/>
            <p:cNvSpPr/>
            <p:nvPr/>
          </p:nvSpPr>
          <p:spPr>
            <a:xfrm>
              <a:off x="5549760" y="3414600"/>
              <a:ext cx="560520" cy="1764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AutoShape 61"/>
            <p:cNvSpPr/>
            <p:nvPr/>
          </p:nvSpPr>
          <p:spPr>
            <a:xfrm>
              <a:off x="8023320" y="2505240"/>
              <a:ext cx="1120680" cy="87948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Efek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Line 62"/>
            <p:cNvSpPr/>
            <p:nvPr/>
          </p:nvSpPr>
          <p:spPr>
            <a:xfrm>
              <a:off x="900000" y="2997360"/>
              <a:ext cx="180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Line 63"/>
            <p:cNvSpPr/>
            <p:nvPr/>
          </p:nvSpPr>
          <p:spPr>
            <a:xfrm>
              <a:off x="6156360" y="292428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Line 64"/>
            <p:cNvSpPr/>
            <p:nvPr/>
          </p:nvSpPr>
          <p:spPr>
            <a:xfrm flipV="1">
              <a:off x="324000" y="2205000"/>
              <a:ext cx="0" cy="4320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65"/>
            <p:cNvSpPr/>
            <p:nvPr/>
          </p:nvSpPr>
          <p:spPr>
            <a:xfrm flipV="1">
              <a:off x="324000" y="3428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Line 66"/>
            <p:cNvSpPr/>
            <p:nvPr/>
          </p:nvSpPr>
          <p:spPr>
            <a:xfrm flipH="1">
              <a:off x="5940360" y="3860640"/>
              <a:ext cx="9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67"/>
            <p:cNvSpPr/>
            <p:nvPr/>
          </p:nvSpPr>
          <p:spPr>
            <a:xfrm>
              <a:off x="8532720" y="220500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68"/>
            <p:cNvSpPr/>
            <p:nvPr/>
          </p:nvSpPr>
          <p:spPr>
            <a:xfrm>
              <a:off x="3851280" y="220500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69"/>
            <p:cNvSpPr/>
            <p:nvPr/>
          </p:nvSpPr>
          <p:spPr>
            <a:xfrm flipV="1">
              <a:off x="4643280" y="1844280"/>
              <a:ext cx="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5292720" y="1844640"/>
              <a:ext cx="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nsep mas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a terdiri dari masyarakat dalam jumlah bes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dak bisa dibedakan satu sama lainny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alu bersikap under is timage terhadap pemebrit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kar diorganis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a merupakan repleksi dari kehidupan sos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ujud Komunikasi Dalam Masyarakat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hak-pihak yang terlibat dalam komunik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 yang ditempu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pentingan atau tujuan komunik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ang lingkup yang melakukanny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uran yang digunak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i pesan yang disampaik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munikasi Langsu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2743200" y="1600200"/>
            <a:ext cx="3733920" cy="2743200"/>
            <a:chOff x="2743200" y="1600200"/>
            <a:chExt cx="3733920" cy="2743200"/>
          </a:xfrm>
        </p:grpSpPr>
        <p:sp>
          <p:nvSpPr>
            <p:cNvPr id="89" name="Oval 4"/>
            <p:cNvSpPr/>
            <p:nvPr/>
          </p:nvSpPr>
          <p:spPr>
            <a:xfrm>
              <a:off x="2743200" y="1600200"/>
              <a:ext cx="1295280" cy="1143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dividu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Oval 6"/>
            <p:cNvSpPr/>
            <p:nvPr/>
          </p:nvSpPr>
          <p:spPr>
            <a:xfrm>
              <a:off x="5105520" y="1600200"/>
              <a:ext cx="1295280" cy="1143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dividu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4165560" y="217152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Oval 8"/>
            <p:cNvSpPr/>
            <p:nvPr/>
          </p:nvSpPr>
          <p:spPr>
            <a:xfrm>
              <a:off x="2743200" y="3200400"/>
              <a:ext cx="1295280" cy="1143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lompo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Line 9"/>
            <p:cNvSpPr/>
            <p:nvPr/>
          </p:nvSpPr>
          <p:spPr>
            <a:xfrm>
              <a:off x="3352680" y="27432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Line 10"/>
            <p:cNvSpPr/>
            <p:nvPr/>
          </p:nvSpPr>
          <p:spPr>
            <a:xfrm flipH="1">
              <a:off x="4038120" y="2590560"/>
              <a:ext cx="121932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Oval 11"/>
            <p:cNvSpPr/>
            <p:nvPr/>
          </p:nvSpPr>
          <p:spPr>
            <a:xfrm>
              <a:off x="5181480" y="3124080"/>
              <a:ext cx="1295640" cy="1143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lompo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Line 13"/>
            <p:cNvSpPr/>
            <p:nvPr/>
          </p:nvSpPr>
          <p:spPr>
            <a:xfrm>
              <a:off x="4076640" y="3733560"/>
              <a:ext cx="1067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>
              <a:off x="3886200" y="2666880"/>
              <a:ext cx="12952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15"/>
            <p:cNvSpPr/>
            <p:nvPr/>
          </p:nvSpPr>
          <p:spPr>
            <a:xfrm>
              <a:off x="5791320" y="28191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" name="Oval 17"/>
          <p:cNvSpPr/>
          <p:nvPr/>
        </p:nvSpPr>
        <p:spPr>
          <a:xfrm>
            <a:off x="990720" y="4724280"/>
            <a:ext cx="7162560" cy="1676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yarak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3276720" y="4343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5943600" y="426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21"/>
          <p:cNvSpPr/>
          <p:nvPr/>
        </p:nvSpPr>
        <p:spPr>
          <a:xfrm>
            <a:off x="1828800" y="22096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7238880" y="22096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1828800" y="2197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24"/>
          <p:cNvSpPr/>
          <p:nvPr/>
        </p:nvSpPr>
        <p:spPr>
          <a:xfrm>
            <a:off x="6400800" y="22096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munikasi Individu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1447920" y="2743200"/>
            <a:ext cx="1981080" cy="1600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divid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5562720" y="2743200"/>
            <a:ext cx="1981080" cy="1600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divid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3505320" y="35812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759120" y="2057400"/>
            <a:ext cx="13716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t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g dibang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419720" y="29718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28600" y="4572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munikasi Individu tidak lepas dari pengaruh komunikasi kelompok, namun komunikasi ini hanya melihat konten yang dibangun oleh individu yang bersangkut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munikasi kelompo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1434960" y="2590920"/>
            <a:ext cx="2133720" cy="1600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lomp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130720" y="2514600"/>
            <a:ext cx="2133720" cy="1600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lomp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3619440" y="33526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Group 15"/>
          <p:cNvGrpSpPr/>
          <p:nvPr/>
        </p:nvGrpSpPr>
        <p:grpSpPr>
          <a:xfrm>
            <a:off x="-25560" y="1333440"/>
            <a:ext cx="2463840" cy="5176440"/>
            <a:chOff x="-25560" y="1333440"/>
            <a:chExt cx="2463840" cy="5176440"/>
          </a:xfrm>
        </p:grpSpPr>
        <p:sp>
          <p:nvSpPr>
            <p:cNvPr id="118" name="Text Box 8"/>
            <p:cNvSpPr/>
            <p:nvPr/>
          </p:nvSpPr>
          <p:spPr>
            <a:xfrm>
              <a:off x="685800" y="133344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ivasi bersam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0" y="1968480"/>
              <a:ext cx="121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ujuan yang dicapai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-25560" y="31114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ersepsi yg sam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393840" y="4152960"/>
              <a:ext cx="189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san yg tumbuh dlm kelompo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457200" y="5181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pemimpina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Text Box 14"/>
            <p:cNvSpPr/>
            <p:nvPr/>
          </p:nvSpPr>
          <p:spPr>
            <a:xfrm>
              <a:off x="533520" y="586728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engaruh eksterna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" name="Group 16"/>
          <p:cNvGrpSpPr/>
          <p:nvPr/>
        </p:nvGrpSpPr>
        <p:grpSpPr>
          <a:xfrm>
            <a:off x="7188120" y="1193760"/>
            <a:ext cx="2463840" cy="5176440"/>
            <a:chOff x="7188120" y="1193760"/>
            <a:chExt cx="2463840" cy="5176440"/>
          </a:xfrm>
        </p:grpSpPr>
        <p:sp>
          <p:nvSpPr>
            <p:cNvPr id="125" name="Text Box 17"/>
            <p:cNvSpPr/>
            <p:nvPr/>
          </p:nvSpPr>
          <p:spPr>
            <a:xfrm>
              <a:off x="7899480" y="119376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ivasi bersam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Text Box 18"/>
            <p:cNvSpPr/>
            <p:nvPr/>
          </p:nvSpPr>
          <p:spPr>
            <a:xfrm>
              <a:off x="7213680" y="1828800"/>
              <a:ext cx="121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ujuan yang dicapai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7188120" y="29718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ersepsi yg sam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7607520" y="4013280"/>
              <a:ext cx="189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san yg tumbuh dlm kelompo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7670880" y="50418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pemimpina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Text Box 22"/>
            <p:cNvSpPr/>
            <p:nvPr/>
          </p:nvSpPr>
          <p:spPr>
            <a:xfrm>
              <a:off x="7747200" y="572760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engaruh eksterna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syaratan komunikasi langsu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n-komunikator harus berte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es dipengaruhi oleh emo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asaan diantara kedua pih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nya feedback secara langs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munikasi Mas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mnunikasi massa adalah proses komunikasi yang dilakukan melalui media massa dengan berbagai tujuan komunikasi dan untuk menyampaikan informasi kepada khalayak luas. Unsur-unsur yang penting dalam komunikasi massa adalah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Komunik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Media mas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Informasi (mees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Gatekee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Khalay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 Umpan bal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unikator dalam komunikasi mas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hak yang mengandalkan media massa dengan teknologi telematika modern sehingga informasi berlangsung dengan cep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munikator dalam penyebaran informasi mencoba berbagi informasi, pemahaman, wawasan dan solusi-solusi dengan jutaan mas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munikator juga berperan sebagai sumber pemberitaan yang mewakili institusi formal yang bersifat pro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1496880"/>
          <a:ext cx="8229600" cy="399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 Mas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 mas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tekee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halaya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 komunikasi yang melakukan penyebaran informasi secara masal dan dapat diakses masyarakat secara masal pu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si yang ditujukan kepada masyarakat secara masal pula, bukan informasi yang hanya dikonsumsi oleh pribad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yeleksi informa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a yang menerima informasi yang disebarkan oleh media mas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2:30:55Z</dcterms:created>
  <dc:creator>Fahri</dc:creator>
  <dc:description/>
  <dc:language>en-US</dc:language>
  <cp:lastModifiedBy>PC</cp:lastModifiedBy>
  <dcterms:modified xsi:type="dcterms:W3CDTF">2013-10-31T04:52:47Z</dcterms:modified>
  <cp:revision>7</cp:revision>
  <dc:subject/>
  <dc:title>PROSES KOMUNIKASI DALAM MASYARAKAT</dc:title>
</cp:coreProperties>
</file>