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DAC-EA4C-4E06-A6D4-3FA54ABE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9ADA-B455-47B5-BEF7-7888FA69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252-D2B2-4252-A9C3-3EAD6707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9FC-3AB2-47D0-8DC7-7319F72A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9AA-E69E-40D3-B709-192EA35E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F96-2EBF-4C33-82F7-6E9E5333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1BD-156E-4875-B09A-67789FF8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6E3-C865-4374-B5E8-36F5069E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4F1-3F05-4B8A-B922-CF8C3479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51B-3AD6-4E7E-9799-798E412A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ED9-11AE-463D-A6A1-E53CD0B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EF3-31F5-4379-AB4A-CBE1C46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E0D-A82E-44DE-BAE9-B84217D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11B-A4A4-4DB9-BCC1-0BDACC4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DEE-8FCC-412C-B472-66E12D9FCA7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1295280"/>
            <a:ext cx="9144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Times New Roman"/>
              </a:rPr>
              <a:t>Rooster</a:t>
            </a:r>
            <a:r>
              <a:rPr b="1" lang="en-US" sz="115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1500" spc="-1" strike="noStrike">
                <a:solidFill>
                  <a:srgbClr val="404040"/>
                </a:solidFill>
                <a:latin typeface="Times New Roman"/>
              </a:rPr>
              <a:t>Teeth</a:t>
            </a:r>
            <a:r>
              <a:rPr b="1" lang="en-US" sz="115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1500" spc="-1" strike="noStrike">
                <a:solidFill>
                  <a:srgbClr val="0070c0"/>
                </a:solidFill>
                <a:latin typeface="Times New Roman"/>
              </a:rPr>
              <a:t>Jeopardy!</a:t>
            </a:r>
            <a:endParaRPr b="1" lang="en-US" sz="115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4764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video showed Burnie how successful he could be on the interne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7640" y="2112840"/>
            <a:ext cx="784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pple switch ad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arring Gus Sorola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0948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website was created in an effort to get free video gam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47640" y="2833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runkgamers.com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47560" y="199692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dim-witted character is known as a team-killing-fucktard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J. Caboos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23960" y="17208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Freelancer was implanted with the Theta A.I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23960" y="283356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gent North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A.I. represents Creativi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I. Sigma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0">
            <a:hlinkClick r:id="rId1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92240" y="219564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imes New Roman"/>
              </a:rPr>
              <a:t>Choose your point value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71680" y="17208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character is known for a catch phrase, in which he uses in inappropriate times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71680" y="2828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Times New Roman"/>
              </a:rPr>
              <a:t>Lavernius Tucke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haracter is known for his unique vo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recto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1667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thinks the south pole resides in Canad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randon Farmahin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71680" y="17208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is known for their naps and vomi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1680" y="2833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oe the Ca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man is known for his facial hai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ack Pattillo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T History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Red vs. Blu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chievemen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Hunter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ictur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isc.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Employees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voice actor just showed up at his last jo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an Goodwi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9640" y="17161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has upgraded from 2 monitors to 6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nty Oum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47640" y="13510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man is known for throwing roses and making kung-fu noises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47640" y="2828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y Narvaez J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4764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person is known for his yelling and aggression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47640" y="2833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Jon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62120" y="17208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bet started Achievement Hunte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61272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s bet that Geoff could not reach 10,000 gamerscore in one week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15368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se two men worked at a tech support company before Rooster Teeth began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95360" y="6127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conic structure represents victory to Achievement Hunter employe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95360" y="2833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ower of Pimp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09480" y="612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ack Pattillo used to work for a video game company, Disney world, and what news websit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nt it cool new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icture was taken where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862360" y="1938240"/>
            <a:ext cx="34192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5800" y="227484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Ramsey’s hous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33520" y="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picture shows a young ____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2940120" y="2308320"/>
            <a:ext cx="32637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 Burn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Burnie has once said ______ which is represented very well in these photos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593640" y="3738600"/>
            <a:ext cx="3749760" cy="2978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135080" y="1254240"/>
            <a:ext cx="2666880" cy="2435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751280" y="3722760"/>
            <a:ext cx="2789280" cy="307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4189320" y="1254240"/>
            <a:ext cx="34988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7640" y="22748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 two pictures of him look alik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00280" y="1166760"/>
            <a:ext cx="7543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Ramsey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&amp;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us Sorola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4572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This painting is located where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1893960"/>
            <a:ext cx="9144000" cy="3070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76320" y="550224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BONUS 100 points: what does it say in English?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47640" y="536400"/>
            <a:ext cx="78487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It is located in the RT office above the stairs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ONUS: It reads: Work hard, Consume, Continue with increased eff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Rooster Teeth employee is this?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685800" y="1728720"/>
            <a:ext cx="7688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85800" y="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Gavin Free (age 14)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99960" y="1108080"/>
            <a:ext cx="83440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1667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threw up while doing this because he didn’t want to work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uffing gasoline, while in the Army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00280" y="84312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individual sadly is no longer with us; but was credited as security on RvB season 9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800280" y="1996920"/>
            <a:ext cx="754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incol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(Burnie’s dog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85800" y="6127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ecause he was going to miss father’s day Burnie made this with his kid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85800" y="28335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overcraf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 regrets using this date as their anniversa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16676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vent is what made Joel Heyman afraid of snak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762120" y="116676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Joel and his brother took their snake to the public poo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stock does Joel Heyman always say to bu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LD (gold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1120" y="11667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id Gus say after hearing that Geoff and Griffon were engage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0" y="245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 think that’s a terrible idea”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4382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pril 1s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00280" y="116676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film was the first full length production Burnie had ma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1981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chedual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Nick</cp:lastModifiedBy>
  <dcterms:modified xsi:type="dcterms:W3CDTF">2012-09-30T21:21:54Z</dcterms:modified>
  <cp:revision>31</cp:revision>
  <dc:subject/>
  <dc:title>No Slide Title</dc:title>
</cp:coreProperties>
</file>