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279A-FAFE-4828-9089-A1ED57976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B840-FC0D-460C-9FB7-085EFE54C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4D9-A099-4F19-AF79-3103BBFA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3C3-2CFF-464E-BE34-754A73AB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674-EF90-43EF-A9B8-D2A1D512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B71-2564-4339-8A1F-4A7B6A8A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B98-54F0-48E5-AE2E-8FF60745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C50-98E2-4566-8AC7-7CAEB5F7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377-1ED3-4FDB-8FCD-643F5392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D15-E6FB-4475-A737-9F57ADC8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BCF-A58D-4AD1-8D2C-E8B75EE7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854-2C1E-4E04-A4EE-B0972F78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9E3-30F2-46A5-9BAC-2F5F887D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D85-1FE6-4F2E-A5C3-638C0D67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CDF8-F8BB-4124-9DE8-292223DA2F4E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24.xml"/><Relationship Id="rId13" Type="http://schemas.openxmlformats.org/officeDocument/2006/relationships/slide" Target="slide34.xml"/><Relationship Id="rId14" Type="http://schemas.openxmlformats.org/officeDocument/2006/relationships/slide" Target="slide44.xml"/><Relationship Id="rId15" Type="http://schemas.openxmlformats.org/officeDocument/2006/relationships/slide" Target="slide5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56.xm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2.xml"/><Relationship Id="rId24" Type="http://schemas.openxmlformats.org/officeDocument/2006/relationships/slide" Target="slide28.xml"/><Relationship Id="rId25" Type="http://schemas.openxmlformats.org/officeDocument/2006/relationships/slide" Target="slide38.xml"/><Relationship Id="rId26" Type="http://schemas.openxmlformats.org/officeDocument/2006/relationships/slide" Target="slide48.xml"/><Relationship Id="rId27" Type="http://schemas.openxmlformats.org/officeDocument/2006/relationships/slide" Target="slide58.xml"/><Relationship Id="rId28" Type="http://schemas.openxmlformats.org/officeDocument/2006/relationships/slide" Target="slide30.xml"/><Relationship Id="rId29" Type="http://schemas.openxmlformats.org/officeDocument/2006/relationships/slide" Target="slide40.xml"/><Relationship Id="rId30" Type="http://schemas.openxmlformats.org/officeDocument/2006/relationships/slide" Target="slide50.xml"/><Relationship Id="rId31" Type="http://schemas.openxmlformats.org/officeDocument/2006/relationships/slide" Target="slide60.xml"/><Relationship Id="rId32" Type="http://schemas.openxmlformats.org/officeDocument/2006/relationships/slide" Target="slide32.xml"/><Relationship Id="rId33" Type="http://schemas.openxmlformats.org/officeDocument/2006/relationships/slide" Target="slide42.xml"/><Relationship Id="rId34" Type="http://schemas.openxmlformats.org/officeDocument/2006/relationships/slide" Target="slide52.xml"/><Relationship Id="rId35" Type="http://schemas.openxmlformats.org/officeDocument/2006/relationships/slide" Target="slide62.xml"/><Relationship Id="rId36" Type="http://schemas.openxmlformats.org/officeDocument/2006/relationships/slide" Target="slide2.xml"/><Relationship Id="rId3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0" y="1295280"/>
            <a:ext cx="91440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0000"/>
                </a:solidFill>
                <a:latin typeface="Times New Roman"/>
              </a:rPr>
              <a:t>Rooster</a:t>
            </a:r>
            <a:r>
              <a:rPr b="1" lang="en-US" sz="115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11500" spc="-1" strike="noStrike">
                <a:solidFill>
                  <a:srgbClr val="404040"/>
                </a:solidFill>
                <a:latin typeface="Times New Roman"/>
              </a:rPr>
              <a:t>Teeth</a:t>
            </a:r>
            <a:r>
              <a:rPr b="1" lang="en-US" sz="115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11500" spc="-1" strike="noStrike">
                <a:solidFill>
                  <a:srgbClr val="0070c0"/>
                </a:solidFill>
                <a:latin typeface="Times New Roman"/>
              </a:rPr>
              <a:t>Jeopardy!</a:t>
            </a:r>
            <a:endParaRPr b="1" lang="en-US" sz="115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47640" y="116676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video showed Burnie how successful he could be on the interne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47640" y="2112840"/>
            <a:ext cx="7848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e Apple switch ad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starring Gus Sorola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609480" y="116676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website was created in an effort to get free video gam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47640" y="28335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runkgamers.com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47560" y="199692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dim-witted character is known as a team-killing-fucktard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09480" y="28335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ichael J. Caboose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23960" y="172080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Freelancer was implanted with the Theta A.I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23960" y="283356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gent North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09480" y="227484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A.I. represents Creativit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28335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.I. Sigma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0">
            <a:hlinkClick r:id="rId1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92240" y="219564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Times New Roman"/>
              </a:rPr>
              <a:t>Choose your point value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71680" y="17208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is character is known for a catch phrase, in which he uses in inappropriate times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71680" y="2828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33"/>
                </a:solidFill>
                <a:latin typeface="Times New Roman"/>
              </a:rPr>
              <a:t>Lavernius Tucker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7208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character is known for his unique voic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33520" y="28335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Director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116676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employee thinks the south pole resides in Canad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09480" y="227484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randon Farmahini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571680" y="17208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employee is known for their naps and vomi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71680" y="28335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Joe the Cat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09480" y="227484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man is known for his facial hai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09480" y="28335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Jack Pattillo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3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T History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AutoShape 24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Red vs. Blue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6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Achievement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Hunter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7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icture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8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isc.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9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10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30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2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1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3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2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4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3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5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4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5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6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7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8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10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9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0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1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2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2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2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3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2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4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5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4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6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5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7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3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8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3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49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3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0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3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1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4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2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9" action="ppaction://hlinksldjump"/>
              </a:rPr>
              <a:t>4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3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0" action="ppaction://hlinksldjump"/>
              </a:rPr>
              <a:t>4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4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1" action="ppaction://hlinksldjump"/>
              </a:rPr>
              <a:t>4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55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2" action="ppaction://hlinksldjump"/>
              </a:rPr>
              <a:t>5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AutoShape 56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3" action="ppaction://hlinksldjump"/>
              </a:rPr>
              <a:t>5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AutoShape 57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4" action="ppaction://hlinksldjump"/>
              </a:rPr>
              <a:t>5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AutoShape 58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5" action="ppaction://hlinksldjump"/>
              </a:rPr>
              <a:t>50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AutoShape 60">
            <a:hlinkClick r:id="rId36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Employees</a:t>
            </a:r>
            <a:endParaRPr b="1" lang="en-US" sz="23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3520" y="17208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voice actor just showed up at his last job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33520" y="28335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an Goodwin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39640" y="171612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employee has upgraded from 2 monitors to 6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33520" y="28335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onty Oum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47640" y="135108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is man is known for throwing roses and making kung-fu noises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47640" y="2828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Ray Narvaez Jr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47640" y="116676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person is known for his yelling and aggression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47640" y="28335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ichael Jone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762120" y="172080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bet started Achievement Hunter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762120" y="61272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urnies bet that Geoff could not reach 10,000 gamerscore in one week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153684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ese two men worked at a tech support company before Rooster Teeth began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95360" y="61272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conic structure represents victory to Achievement Hunter employee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95360" y="28335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Tower of Pimp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09480" y="6127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Jack Pattillo used to work for a video game company, Disney world, and what news websit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09480" y="28335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int it cool new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picture was taken where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2862360" y="1938240"/>
            <a:ext cx="34192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85800" y="227484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eoff Ramsey’s house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33520" y="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picture shows a young ____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2940120" y="2308320"/>
            <a:ext cx="32637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3520" y="28335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urnie Burn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Burnie has once said ______ which is represented very well in these photos.</a:t>
            </a:r>
            <a:endParaRPr b="1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593640" y="3738600"/>
            <a:ext cx="3749760" cy="2978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1135080" y="1254240"/>
            <a:ext cx="2666880" cy="2435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3"/>
          <a:stretch/>
        </p:blipFill>
        <p:spPr>
          <a:xfrm>
            <a:off x="4751280" y="3722760"/>
            <a:ext cx="2789280" cy="3074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4"/>
          <a:stretch/>
        </p:blipFill>
        <p:spPr>
          <a:xfrm>
            <a:off x="4189320" y="1254240"/>
            <a:ext cx="349884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47640" y="227484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o two pictures of him look alik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00280" y="1166760"/>
            <a:ext cx="7543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eoff Ramsey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&amp;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us Sorola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4572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This painting is located where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0" y="1893960"/>
            <a:ext cx="9144000" cy="30700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76320" y="5502240"/>
            <a:ext cx="90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BONUS 100 points: what does it say in English?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647640" y="536400"/>
            <a:ext cx="784872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It is located in the RT office above the stairs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BONUS: It reads: Work hard, Consume, Continue with increased effort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5800" y="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What Rooster Teeth employee is this?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08" name="Picture 1" descr=""/>
          <p:cNvPicPr/>
          <p:nvPr/>
        </p:nvPicPr>
        <p:blipFill>
          <a:blip r:embed="rId1"/>
          <a:stretch/>
        </p:blipFill>
        <p:spPr>
          <a:xfrm>
            <a:off x="685800" y="1728720"/>
            <a:ext cx="76881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685800" y="0"/>
            <a:ext cx="77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Gavin Free (age 14)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399960" y="1108080"/>
            <a:ext cx="834408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609480" y="116676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eoff threw up while doing this because he didn’t want to work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09480" y="227484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uffing gasoline, while in the Army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800280" y="843120"/>
            <a:ext cx="7543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is individual sadly is no longer with us; but was credited as security on RvB season 9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800280" y="1996920"/>
            <a:ext cx="7543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Lincoln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(Burnie’s dog)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85800" y="61272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ecause he was going to miss father’s day Burnie made this with his kid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685800" y="28335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hovercraft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85800" y="1600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urnie regrets using this date as their anniversar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16676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event is what made Joel Heyman afraid of snak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762120" y="116676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en Joel and his brother took their snake to the public pool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33520" y="17208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stock does Joel Heyman always say to bu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533520" y="28335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LD (gold)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>
            <a:hlinkClick r:id="rId1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1120" y="116676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did Gus say after hearing that Geoff and Griffon were engaged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0" y="2459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I think that’s a terrible idea”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38080" y="24382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pril 1st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00280" y="116676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film was the first full length production Burnie had mad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38080" y="19810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Schedual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Nick</cp:lastModifiedBy>
  <dcterms:modified xsi:type="dcterms:W3CDTF">2012-09-30T21:21:54Z</dcterms:modified>
  <cp:revision>31</cp:revision>
  <dc:subject/>
  <dc:title>No Slide Title</dc:title>
</cp:coreProperties>
</file>